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E76D-2385-478C-AC2B-848761C8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766C-0249-4C50-BF31-17241FF1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F188-7CBB-47C5-AABD-7EB1BAE3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A2B8-9FF3-4640-BF34-E990C600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C024-C4DC-4AFA-BA2F-43AC2E2F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16D3-61DE-4BE2-A5D8-75531DA2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A3FE-0B4C-4DBC-9A41-C13BD1C9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94CF-72E2-4A02-B1F2-5418B84C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D5D1-B1DF-4BB8-89CC-0BCFF3CC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E396-6CF5-4E82-9630-BCA68ABE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C70A-0522-4E3E-BC62-095CAB3F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C50F-DF15-4373-87DE-8B634745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3CC6-41E4-430D-AC10-7DCBA1BA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17FF-9642-4E0C-A52C-06B51BB9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FC42-8897-421A-BCD4-8FB63021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D682-0D03-4D5B-A352-4B8CBAB2A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7878-2958-46C7-B7AA-7BB945D0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C159-F3CB-4238-A6BA-D9ED341B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AB6D-17D6-4790-A7FB-88023D59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8195-DD32-4604-B8BD-0A186678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E490-1D8E-4D05-B915-8423BA85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BE37-038D-40D1-AC1C-4EF292DB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E516-93A8-4FE6-8BE3-A4607A94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1054-B2C3-42F9-B1EA-CCD0BC9A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205F-5FA3-4D10-A3DB-7C01592E8C5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DR SZALAI ERZSÉBET 2012.IX.1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5153-5A3D-4597-9BBD-A6BD438C550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E36A-F0C5-42BF-9093-459A0E06955C}" type="datetime">
              <a:rPr b="0" lang="en-US" sz="1000" spc="-1" strike="noStrike">
                <a:solidFill>
                  <a:srgbClr val="ffffff"/>
                </a:solidFill>
                <a:latin typeface="Tahoma"/>
              </a:rPr>
              <a:t>07/28/26</a:t>
            </a:fld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DR SZALAI ERZSÉBET 2012.IX.1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B0A6-D230-40CC-8A58-299A6744C7A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wm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6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765000"/>
            <a:ext cx="64008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PÉNZMOSÁS MEGAKADÁLYOZÁS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SZALAI ERZSÉBET 202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ia számának helye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4C9C-29C4-473C-BE01-6EBA0A73F41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000"/>
                </a:solidFill>
                <a:latin typeface="Tahoma"/>
              </a:rPr>
              <a:t>KIKRE, MELY TEVÉKENYSÉGET VÉGZŐKRE VONATKOZIK  a Tv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9900"/>
                </a:solidFill>
                <a:latin typeface="Tahoma"/>
              </a:rPr>
              <a:t>Aki/amely MO. területén P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hitelintéz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pénzügyi szolgáltató 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(pl: pénzváltó iroda, biztosító életbiztosítási ág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foglalkoztatói nyugdíjszolgáltató intézmé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önkéntes kölcsönös biztosítópénztá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nemzetközi postautalvány-felvételt és -kézbesítést végző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SZALAI ERZSÉBET 202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árukereskedő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mennyiben tevékenysége folytatása sorá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M forintot elérő vagy meghaladó összegű készpénzfizetést fogad 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ebdings"/>
                <a:ea typeface="Webdings"/>
              </a:rPr>
              <a:t>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zékhelyszolgáltató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SZALAI ERZSÉBET 202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Online is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Dia számának helye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BDAF-0D6E-4813-91EB-CB607FA3057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8" name="Picture 15" descr="Részletek"/>
          <p:cNvPicPr/>
          <p:nvPr/>
        </p:nvPicPr>
        <p:blipFill>
          <a:blip r:embed="rId1"/>
          <a:stretch/>
        </p:blipFill>
        <p:spPr>
          <a:xfrm>
            <a:off x="6804000" y="907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j0233018"/>
          <p:cNvPicPr/>
          <p:nvPr/>
        </p:nvPicPr>
        <p:blipFill>
          <a:blip r:embed="rId2"/>
          <a:stretch/>
        </p:blipFill>
        <p:spPr>
          <a:xfrm>
            <a:off x="971640" y="3645000"/>
            <a:ext cx="2574720" cy="2016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Részletek"/>
          <p:cNvPicPr/>
          <p:nvPr/>
        </p:nvPicPr>
        <p:blipFill>
          <a:blip r:embed="rId3"/>
          <a:stretch/>
        </p:blipFill>
        <p:spPr>
          <a:xfrm>
            <a:off x="2556000" y="33336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MC900344099[1]"/>
          <p:cNvPicPr/>
          <p:nvPr/>
        </p:nvPicPr>
        <p:blipFill>
          <a:blip r:embed="rId4"/>
          <a:stretch/>
        </p:blipFill>
        <p:spPr>
          <a:xfrm>
            <a:off x="6877080" y="4797360"/>
            <a:ext cx="1066680" cy="1733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Részletek"/>
          <p:cNvPicPr/>
          <p:nvPr/>
        </p:nvPicPr>
        <p:blipFill>
          <a:blip r:embed="rId5"/>
          <a:stretch/>
        </p:blipFill>
        <p:spPr>
          <a:xfrm>
            <a:off x="4427640" y="2565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SZALAI ERZSÉBET 202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SZOLGÁLTATÓ ÜGYFÉL átvilágítási tevékenysége  MIKOR </a:t>
            </a: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kötelező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??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üzleti kapcsolat létesítésekor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négymillió-ötszázezer forinto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elérő vagy meghaladó összegű ügyleti megbízás teljesítésekor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árukereskedő esetében a </a:t>
            </a: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3 M millió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intot elérő vagy meghaladó összegű ügyleti megbízás készpénzben történő teljesítésekor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Dia számának helye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FD66-9513-410A-80C9-ACAC37CF56A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SZALAI ERZSÉBET 202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7488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300 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orintot meghaladó összegű,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pénzátutalá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k minősülő ügyleti megbízás teljesítésekor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300 e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orintot elérő, illetve azt meghaladó összegű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pénzváltá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seté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SZALAI ERZSÉBET 202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szolgáltató az azonosítás során legalább az alábbi adatokat köteles rögzíteni: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6920" y="1557000"/>
            <a:ext cx="754380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Tahoma"/>
              </a:rPr>
              <a:t>természetes személ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saládi és utónevét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zületési családi és utónevét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állampolgárságát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zületési helyét, idejét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nyja születési nevét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lakcímét, ennek hiányában tartózkodási helyét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zonosító okmányának típusát és számá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Tahoma"/>
              </a:rPr>
              <a:t>jogi személy vagy jogi személyiséggel nem rendelkező szerveze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nevét, rövidített nevét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zékhelyének, külföldi székhelyű vállalkozás esetén - amennyiben ilyennel rendelkezik - magyarországi fióktelepének címét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őtevékenységét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képviseletére jogosultak nevét és beosztását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kézbesítési megbízottjának az azonosítására alkalmas adatait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égbírósági nyilvántartásban szereplő jogi személy esetén cégjegyzékszámát, egyéb jogi személy esetén a létrejöttéről (nyilvántartásba vételéről, bejegyzéséről) szóló határozat számát vagy nyilvántartási számát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dószámát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SZALAI ERZSÉBET 202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ahoma"/>
              </a:rPr>
              <a:t>Ügyfél-átvilágítá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z ügyfél azonosítás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ckázati szintbe történő besorolása (írásban is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zemélyazonosságát igazoló ellenőrzés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z üzleti kapcsolat és az ügyleti megbízás céljának, jellegének megismerés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lyamatos figyelemmel kísérése, valamin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játékkaszinót, kártyatermet működtető és a távszerencsejátékot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line kaszinójátékot szervező szolgáltató általa játékos nyilvántartásba vételekor elvégzett ügyfél-átvilágítási intézkedése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SZALAI ERZSÉBET 202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ÜGYFÉL-ÁTVILÁGÍTÁSO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gyszerűsített ügyfél-átvilágítá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kozott ügyfél-átvilágítá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ális ügyfél-átvilágítá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SZALAI ERZSÉBET 202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9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6632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 szolgáltató feladata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JELENTŐ KIJELÖLÉ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épzés, képzési program, kijelölés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lső ellenőrző és információs rendszer működtetéséről gondoskodn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ckázatértékelés,belső ellenőrzési rendszer, belső szabályzat, adatmegőrzés 8 év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Dia számának helye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656D-7FB3-4761-9998-20399EF9B15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SZALAI ERZSÉBET 202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A pénzmosással kapcsolatos bejelentési kötelezettség elmulasztása</a:t>
            </a:r>
            <a:br>
              <a:rPr sz="40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2852280"/>
            <a:ext cx="75438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401. §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Vétség  2 évig terjedő szabadságveszté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SZALAI ERZSÉBET 202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ÉNZMOSÁ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z a </a:t>
            </a:r>
            <a:r>
              <a:rPr b="1" lang="hu-HU" sz="2800" spc="-1" strike="noStrike">
                <a:solidFill>
                  <a:srgbClr val="ffcc00"/>
                </a:solidFill>
                <a:latin typeface="Tahoma"/>
              </a:rPr>
              <a:t>folyamat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amelyben az elkövetők </a:t>
            </a:r>
            <a:r>
              <a:rPr b="1" lang="hu-HU" sz="2800" spc="-1" strike="noStrike" u="sng">
                <a:solidFill>
                  <a:srgbClr val="ffffff"/>
                </a:solidFill>
                <a:uFillTx/>
                <a:latin typeface="Tahoma"/>
              </a:rPr>
              <a:t>illegális forrásból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– bcs-ből – származó vagyontárgyakat </a:t>
            </a:r>
            <a:r>
              <a:rPr b="1" lang="hu-HU" sz="2800" spc="-1" strike="noStrike" u="sng">
                <a:solidFill>
                  <a:srgbClr val="ffffff"/>
                </a:solidFill>
                <a:uFillTx/>
                <a:latin typeface="Tahoma"/>
              </a:rPr>
              <a:t>legális forrásból származónak kívánnak feltüntetni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, azaz olyan tulajdonsággal ruházzák fel – származási hely, jogcím – amelyek </a:t>
            </a:r>
            <a:r>
              <a:rPr b="1" lang="hu-HU" sz="2800" spc="-1" strike="noStrike" u="sng">
                <a:solidFill>
                  <a:srgbClr val="ffffff"/>
                </a:solidFill>
                <a:uFillTx/>
                <a:latin typeface="Tahoma"/>
              </a:rPr>
              <a:t>alkalmasak arra, hogy eredetüket a hatóság elől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, így a nyomozó  hatóság, adóhatóság elől </a:t>
            </a:r>
            <a:r>
              <a:rPr b="0" lang="hu-HU" sz="2800" spc="-1" strike="noStrike" u="sng">
                <a:solidFill>
                  <a:srgbClr val="ffffff"/>
                </a:solidFill>
                <a:uFillTx/>
                <a:latin typeface="Tahoma"/>
              </a:rPr>
              <a:t>elrejtsék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, leplezzé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SZALAI ERZSÉBET 202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A felfedés tilalma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628280"/>
            <a:ext cx="7543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bejelentés és az adatszolgáltatás teljesítéséről, annak tartalmáról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z elemző-értékelő tevékenységről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z ügylet teljesítésének felfüggesztéséről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bejelentő személyéről, valamint arról, hogy az ügyféllel szemben indult-e büntetőeljárá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tájékoztatás nem adható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biztosítani kell, hogy a bejelentés megtörténte, annak tartalma és a bejelentő személye titokban maradj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SZALAI ERZSÉBET 202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óhiszeműség esetén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bejelentés megtétele nem keletkezte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olgári jogi vagy büntetőjogi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elelőssége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kkor sem, ha a bejelentés megtétele utóbb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egalapozatlannak bizonyu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SZALAI ERZSÉBET 202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 pénzügyi információs egysé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Nemzeti Adó- és Vámhivat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SZALAI ERZSÉBET 202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felügyeletet ellátó szerv pl: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N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zerencsejáték felügyeleti hatósá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gyar Könyvvizsgálói Kama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rületi ügyvédi kama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rületi közjegyzői kama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reskedelmi hatóság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Az árukereskedő belső szabályzatának a kereskedelmi hatósághoz történő benyújtásával vállalhatja a törvény szerinti kötelezettségek teljesítését. A kereskedelmi hatóság a belső szabályzat jóváhagyásával egyidejűleg a szolgáltatót nyilvántartásba veszi. Kizárólag a nyilvántartásban szereplő árukereskedő fogadhat el kétmillió-ötszázezer forintot elérő vagy azt meghaladó összegű készpénzfizetést.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SZALAI ERZSÉBET 202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A törvényi szabályozás célja………….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SZALAI ERZSÉBET 202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BÜNTETŐJOGI SZANKCIÓ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SZALAI ERZSÉBET 202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ia számának helye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FB88-F0A2-410F-A4D8-CDE13552F80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A  MÚL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GENDA  és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VALÓSÁ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8" descr="MCj04403960000[1]"/>
          <p:cNvPicPr/>
          <p:nvPr/>
        </p:nvPicPr>
        <p:blipFill>
          <a:blip r:embed="rId1"/>
          <a:stretch/>
        </p:blipFill>
        <p:spPr>
          <a:xfrm>
            <a:off x="6948360" y="1197000"/>
            <a:ext cx="1374840" cy="14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SZALAI ERZSÉBET 202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ASONLÓSÁ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Részletek"/>
          <p:cNvPicPr/>
          <p:nvPr/>
        </p:nvPicPr>
        <p:blipFill>
          <a:blip r:embed="rId1"/>
          <a:stretch/>
        </p:blipFill>
        <p:spPr>
          <a:xfrm>
            <a:off x="1258920" y="12682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SZALAI ERZSÉBET 202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ÜLFÖL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Nemzetközi szerződés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Nemzeti szabályok nem egységes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Pénzmosás elleni küzdelemmel foglalkozó pü-i hírszerző egység= Financial Intelligence Unit (FIU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SZALAI ERZSÉBET 202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EU Pl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48/2012/EU európai parlamenti és tanácsi rendelet 2015/849 európai parlamenti és tanácsi irányel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5/847 európai parlamenti és tanácsi rende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5/849 európai parlamenti és tanácsi irányelv  st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SZALAI ERZSÉBET 202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Mo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ső:     1994. évi XXIV. tv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7. nyaráig: 2007. évi CXXXVI. tv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lenleg: 2017.évi LIII. tv. a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énzmosás és a terrorizmus finanszírozása megelőzéséről és megakadályozásáró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4" descr="MM900354481[1]"/>
          <p:cNvPicPr/>
          <p:nvPr/>
        </p:nvPicPr>
        <p:blipFill>
          <a:blip r:embed="rId1"/>
          <a:stretch/>
        </p:blipFill>
        <p:spPr>
          <a:xfrm>
            <a:off x="7164360" y="765000"/>
            <a:ext cx="1214640" cy="115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SZALAI ERZSÉBET 2020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6:19:20Z</dcterms:created>
  <dc:creator>PSZFB</dc:creator>
  <dc:description/>
  <dc:language>en-US</dc:language>
  <cp:lastModifiedBy>dr. Szalai Erzsébet</cp:lastModifiedBy>
  <dcterms:modified xsi:type="dcterms:W3CDTF">2020-07-12T14:51:21Z</dcterms:modified>
  <cp:revision>179</cp:revision>
  <dc:subject/>
  <dc:title>4. Témakör </dc:title>
</cp:coreProperties>
</file>